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6286F27-0361-474C-A773-B900CD529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88825C8-65F0-41BB-AE30-6FB207DFE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7" descr="dreapta_1000x440"/>
          <p:cNvPicPr/>
          <p:nvPr/>
        </p:nvPicPr>
        <p:blipFill>
          <a:blip r:embed="rId1"/>
          <a:stretch/>
        </p:blipFill>
        <p:spPr>
          <a:xfrm>
            <a:off x="-9360" y="1162080"/>
            <a:ext cx="9153360" cy="459900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13"/>
          <p:cNvSpPr/>
          <p:nvPr/>
        </p:nvSpPr>
        <p:spPr>
          <a:xfrm>
            <a:off x="57240" y="1638360"/>
            <a:ext cx="5162400" cy="33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Sastanak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orum</a:t>
            </a: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a za koordinaciju donatora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. prosinac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2015</a:t>
            </a: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. god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Arial"/>
              </a:rPr>
              <a:t>POTPORA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U </a:t>
            </a:r>
            <a:r>
              <a:rPr b="1" lang="bs-BA" sz="1800" spc="-1" strike="noStrike">
                <a:solidFill>
                  <a:srgbClr val="ffffff"/>
                </a:solidFill>
                <a:latin typeface="Arial"/>
              </a:rPr>
              <a:t>ZA OPORAVAK OD POPLAVA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9"/>
          <p:cNvSpPr/>
          <p:nvPr/>
        </p:nvSpPr>
        <p:spPr>
          <a:xfrm>
            <a:off x="3943440" y="5810400"/>
            <a:ext cx="50576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Massimo Mina</a:t>
            </a:r>
            <a:br>
              <a:rPr sz="1400"/>
            </a:br>
            <a:r>
              <a:rPr b="1" lang="bs-BA" sz="1400" spc="-1" strike="noStrike">
                <a:solidFill>
                  <a:srgbClr val="003c68"/>
                </a:solidFill>
                <a:latin typeface="Arial"/>
              </a:rPr>
              <a:t>Šef Pododjela </a:t>
            </a: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EU D</a:t>
            </a:r>
            <a:r>
              <a:rPr b="1" lang="bs-BA" sz="1400" spc="-1" strike="noStrike">
                <a:solidFill>
                  <a:srgbClr val="003c68"/>
                </a:solidFill>
                <a:latin typeface="Arial"/>
              </a:rPr>
              <a:t>elegacija u</a:t>
            </a: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 B</a:t>
            </a:r>
            <a:r>
              <a:rPr b="1" lang="bs-BA" sz="1400" spc="-1" strike="noStrike">
                <a:solidFill>
                  <a:srgbClr val="003c68"/>
                </a:solidFill>
                <a:latin typeface="Arial"/>
              </a:rPr>
              <a:t>osni i</a:t>
            </a: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 H</a:t>
            </a:r>
            <a:r>
              <a:rPr b="1" lang="bs-BA" sz="1400" spc="-1" strike="noStrike">
                <a:solidFill>
                  <a:srgbClr val="003c68"/>
                </a:solidFill>
                <a:latin typeface="Arial"/>
              </a:rPr>
              <a:t>ercegovini</a:t>
            </a: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019240" y="0"/>
            <a:ext cx="712476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on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sk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konferencija u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B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riselu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srpanj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2014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. godi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: EUR 85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Prv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p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ake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"Program</a:t>
            </a:r>
            <a:r>
              <a:rPr b="1" i="1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 EU za oporavak od poplava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mplementiran o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UNDP – EUR 42 mi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Drugi pake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i="1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Posebne mjere za oporavak od poplav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i upravljanje rizikom od poplava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"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uključujuć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Sredstva alocirana z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BiH  – EUR 41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Sredstva namijenjana  većem broju zemalj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– EUR 24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-152280" y="2037960"/>
            <a:ext cx="215568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Sredstva EU obećana za oporavak od poplava za </a:t>
            </a: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B</a:t>
            </a: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osnu i</a:t>
            </a:r>
            <a:br>
              <a:rPr sz="18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H</a:t>
            </a: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ercegovinu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nov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4.640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kuć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nov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jekata javne upr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ekonstrukcij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119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 obrazovnih ustano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ekonstrukcij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nov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6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 objekata zdravstvene skrb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nov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najvažnije općinske insfrastruktur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14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Vodoopskrba i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anitacij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ntervenci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Procjena rizika od poplava za stambeni sek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Potpora za MSP-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 poljoprivredu za stvaranj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5.547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novih radnih mje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1495080"/>
            <a:ext cx="2152800" cy="21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Program EU za oporavak od poplava</a:t>
            </a: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Potpora za zaštitu od poplav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i upravljanje voda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UR 15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Intervencije za stambeno zbrinjavanj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EUR 12.5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Jačanje konkurentnosti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MSP-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EUR 9 mi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neizravno upravljanje s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GiZ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-o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Potpor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C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ivilnoj zaštit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EUR 2.5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Potpora Civilnoj zaštiti u podizanju svijest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zagovaranj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i pomoć za oporavak područja pogođenih poplava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EUR 2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947520"/>
            <a:ext cx="2254320" cy="31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Posebne mjere EU za oporavak od poplava u </a:t>
            </a: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BiH</a:t>
            </a:r>
            <a:br>
              <a:rPr sz="1800"/>
            </a:br>
            <a:br>
              <a:rPr sz="1800"/>
            </a:br>
            <a:br>
              <a:rPr sz="2000"/>
            </a:br>
            <a:br>
              <a:rPr sz="20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18720">
              <a:lnSpc>
                <a:spcPct val="12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egionaln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nova i unapređenj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nfrastrukture za zaštitu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d poplava u slivu rijek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ave u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H 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bij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EUR 20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evencij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p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ipremljeno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 odgovor n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poplave 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Zapadnom Balkanu i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urskoj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Lot 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CHO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 upravlja projekto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, EUR 4 mi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2238480" cy="24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Posebne mjere EU za oporavak od poplava – u više zemalja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eć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poziv za dostavljanje ponu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ogram prekogranične suradnj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iH – S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bij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Sredstva alocirana u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2012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2013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. godin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Ukupno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UR 3.6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2238480" cy="24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Program prekogranične suradnje </a:t>
            </a: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BiH - S</a:t>
            </a: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rbija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algn="ctr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bs-BA" sz="3200" spc="-1" strike="noStrike">
                <a:solidFill>
                  <a:srgbClr val="ffffff"/>
                </a:solidFill>
                <a:latin typeface="Arial"/>
                <a:ea typeface="Arial"/>
              </a:rPr>
              <a:t>HVALA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1781280"/>
            <a:ext cx="2238480" cy="24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Sredstva EU obećana za oporavak od poplava za </a:t>
            </a: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B</a:t>
            </a: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osnu i</a:t>
            </a:r>
            <a:br>
              <a:rPr sz="18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H</a:t>
            </a: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ercegovinu</a:t>
            </a: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4:29:17Z</dcterms:created>
  <dc:creator>kurfuerst</dc:creator>
  <dc:description/>
  <dc:language>en-US</dc:language>
  <cp:lastModifiedBy>operater</cp:lastModifiedBy>
  <dcterms:modified xsi:type="dcterms:W3CDTF">2015-12-10T09:16:50Z</dcterms:modified>
  <cp:revision>885</cp:revision>
  <dc:subject/>
  <dc:title>Folie 1</dc:title>
</cp:coreProperties>
</file>